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165-9D74-4D9E-AEFE-838A141F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5F4-CBE7-4955-8AE6-56AFF5A9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112-8420-488E-9C90-EE187299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09C-6AAF-49EE-A6D5-F729B4E8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0FA-55B9-44A6-BCE8-8ADB4B7A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5E8-7809-4A39-95AA-3AC6B846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3A1-67C3-4A66-9C7E-18620703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A3C-19A3-407A-BCBC-B4BD45E3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2A7-A059-4D11-A6B5-2C9C1250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0B6-A739-4A71-BDC1-ACEDA36A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EA2-8A65-40D8-8980-189C904C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733-9B7F-4B0C-8F20-FDEADA17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0DDCCB-3A6C-4ED7-AADF-868A2AA5142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1714680"/>
            <a:ext cx="8001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Conteúdos, Orientação e Objectivos do Proje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"/>
          <p:cNvSpPr/>
          <p:nvPr/>
        </p:nvSpPr>
        <p:spPr>
          <a:xfrm>
            <a:off x="947880" y="387360"/>
            <a:ext cx="6638760" cy="703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vore de obje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umento d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328760" y="1324080"/>
            <a:ext cx="160956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i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íquid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 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087880" y="1324080"/>
            <a:ext cx="212580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mento 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nd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 cap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tores tradic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economia lo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nvert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à criaçã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vas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"/>
          <p:cNvSpPr/>
          <p:nvPr/>
        </p:nvSpPr>
        <p:spPr>
          <a:xfrm>
            <a:off x="439560" y="387360"/>
            <a:ext cx="8061480" cy="808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vore de objectivos (apó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ização e definição da estratégia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umento d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328760" y="1324080"/>
            <a:ext cx="160956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i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íquid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087880" y="1324080"/>
            <a:ext cx="2125800" cy="7286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à criaçã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vas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Uma vez concluída com sucesso a fase de diagnóstico, com o desenvolvimento de objectivos gerais e específicos, a utilização da matriz do enquadramento lógico assegura um plano coerente e transparente que já incorpora os indicadores para a monitorização e a avaliação, tendo também em consideração o ambiente externo do projecto. È também uma visualização conveniente da estrutura interna do projecto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725360" y="200808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ios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3186000" y="223056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4721040" y="223056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4629240" y="2000160"/>
            <a:ext cx="3636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5"/>
          <p:cNvSpPr/>
          <p:nvPr/>
        </p:nvSpPr>
        <p:spPr>
          <a:xfrm>
            <a:off x="3143160" y="4786200"/>
            <a:ext cx="14986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400" spc="-1" strike="noStrike">
                <a:solidFill>
                  <a:srgbClr val="0d0d0d"/>
                </a:solidFill>
                <a:latin typeface="Arial"/>
              </a:rPr>
              <a:t>Orça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6"/>
          <p:cNvSpPr/>
          <p:nvPr/>
        </p:nvSpPr>
        <p:spPr>
          <a:xfrm>
            <a:off x="462924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BJECTIVO GERAL OU FINALIDADE (de desenvolvimento ou global): o objectivo a longo prazo para o qual o projecto vai contribuir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 ESPECÍFICOS (imediatos): a alteração ou as alterações que o projecto vai promover se for implementado com êxi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vem ser específicos, mensuráveis, precisos, realistas e alcançáveis no temp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m-se usando verbos claros e concludentes, no infinito: “Aumentar a capacidade técnica das estruturas de apoio à criação de PME’s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SULTADOS OU METAS: são o produto directo, tangível e específico das actividades do programa ou projecto; não se deve confundir resultados com objectiv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Uma rede descentralizada de ninhos de empresas estabelecida e plenamente operacional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CTIVIDADES: Tarefas que, passo a passo, há que efectuar para produzir os resultados; não se deve confundir actividades com resultado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Efectuar os estudos de viabilidade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CURSOS: Meios necessários e suficientes para implementar as actividades do programa ou projecto; Incluem recursos humanos e institucionais, equipamento, materiais, fundos de investimento, etc.; Não se deve confundir com o orçamen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: critérios de êxito (realísticos e mensuráveis) que permitirão a monitorização e avaliação dos resultados do project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Pelo menos 30% de desempregados encontraram trabalho nas PME’s criadas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OUTPUT (BENS E SERVIÇOS IMEDIATOS CRIADOS PELO PROJECTO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RESULTADOS (MUDANÇAS ESPERADAS DENTRO DO GRUPO ALVO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IMPACTE (INFLUÊNCIA SUSTENTÁVEL QUE SE ESPERA DO PROJECTO SOBRE O AMBIENTE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PROCESS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INPUT (RECURSOS USADOS PELO PROJECTO)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EIOS DE VERIFICAÇÃO: fontes de informação/ métodos para verificar os indicador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tudo do Censo de desempregados do município e da delegação local do Ministério do Trabalho”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 (Programa DelNet - CIF/OIT / A.Vidal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FACTORES EXTERNOS (PRESSUPOSTOS / HIPÓTESES/ RISCOS)</a:t>
            </a:r>
            <a:r>
              <a:rPr b="0" lang="ar-SA" sz="15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: situações, acontecimentos, condições, decisões, etc. que é necessário que ocorram para que o projecto tenha êxito, mas que estão fora do controle do próprio projecto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A tendência para a estabilização das taxas de juro confirma-se durante o período de implementação do programa ou projecto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DOIS MODOS DE LEITUR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ÓGICA VERTICAL (DE INTERVENÇÃO DO PROJECTO)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: explica o projecto (a sua concepção básica) e as razões porque é efectuado; objectivo geral e específicos, resultados, actividades e recurs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LÓGICA HORIZONTAL: avalia o grau de sucesso do projecto com uma série de provas objectivas e analíticas; indicadores (quanto?, quando?, o quê?), meios de verificação e factores externos (pressuposto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teúdos e descrição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scrição e títul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finição geral e final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teúdos e acções principais, complementares  e derivadas a realizar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squema geral do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"/>
          <p:cNvSpPr/>
          <p:nvPr/>
        </p:nvSpPr>
        <p:spPr>
          <a:xfrm>
            <a:off x="642960" y="387360"/>
            <a:ext cx="7688160" cy="86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trutura lógica de um projecto (I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287280" y="2502000"/>
            <a:ext cx="3591000" cy="428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bjectivo g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Black"/>
              </a:rPr>
              <a:t>(de desenvolvimento ou global)</a:t>
            </a:r>
            <a:r>
              <a:rPr b="0" lang="ar-SA" sz="12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4859280" y="2502000"/>
            <a:ext cx="3591000" cy="428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Objectivo(s) específico(s)</a:t>
            </a:r>
            <a:r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ou imediato(s)</a:t>
            </a:r>
            <a:r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77920" y="3719520"/>
            <a:ext cx="3506760" cy="13161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bjectivo geral do 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 longo praz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O projecto contribuirá para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876920" y="3719520"/>
            <a:ext cx="3759120" cy="13161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Reflecte a(s) mudança(s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que o projecto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espera alcança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O projecto conseguirá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6400800" y="2954160"/>
            <a:ext cx="1440" cy="73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H="1">
            <a:off x="3787560" y="4430880"/>
            <a:ext cx="10602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930320" y="2954160"/>
            <a:ext cx="1800" cy="73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"/>
          <p:cNvSpPr/>
          <p:nvPr/>
        </p:nvSpPr>
        <p:spPr>
          <a:xfrm>
            <a:off x="3962520" y="4430880"/>
            <a:ext cx="1440" cy="42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603360" y="2290680"/>
            <a:ext cx="204444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144360" y="3762360"/>
            <a:ext cx="2452680" cy="2251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rodu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gerados pe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do 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Produz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1523880" y="2743200"/>
            <a:ext cx="1800" cy="1001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3649680" y="2290680"/>
            <a:ext cx="204624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6599160" y="2290680"/>
            <a:ext cx="204480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352680" y="3798720"/>
            <a:ext cx="2452680" cy="21974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ções a se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alizadas 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lcançar 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Faz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502320" y="3798720"/>
            <a:ext cx="2451240" cy="2229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cursos humano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técnicos e materia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necessá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 sufici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ara execut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s 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Disponibiliz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2617920" y="4273560"/>
            <a:ext cx="650880" cy="1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5872320" y="4273560"/>
            <a:ext cx="649080" cy="1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4673520" y="2795760"/>
            <a:ext cx="1800" cy="100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7518240" y="2795760"/>
            <a:ext cx="1800" cy="100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3"/>
          <p:cNvSpPr/>
          <p:nvPr/>
        </p:nvSpPr>
        <p:spPr>
          <a:xfrm>
            <a:off x="642960" y="387360"/>
            <a:ext cx="7688160" cy="86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trutura lógica de um projecto (II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Marcador de Posição da Data 1"/>
          <p:cNvSpPr/>
          <p:nvPr/>
        </p:nvSpPr>
        <p:spPr>
          <a:xfrm>
            <a:off x="609480" y="6245280"/>
            <a:ext cx="246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daptado de Schiefer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6286680" y="4714920"/>
            <a:ext cx="2071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s resultados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0" name="Conexão recta unidireccional 101"/>
          <p:cNvCxnSpPr/>
          <p:nvPr/>
        </p:nvCxnSpPr>
        <p:spPr>
          <a:xfrm>
            <a:off x="3429000" y="4928760"/>
            <a:ext cx="2572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Conexão recta unidireccional 102"/>
          <p:cNvCxnSpPr/>
          <p:nvPr/>
        </p:nvCxnSpPr>
        <p:spPr>
          <a:xfrm>
            <a:off x="3429000" y="4500720"/>
            <a:ext cx="2572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Conexão recta unidireccional 103"/>
          <p:cNvCxnSpPr/>
          <p:nvPr/>
        </p:nvCxnSpPr>
        <p:spPr>
          <a:xfrm>
            <a:off x="3429000" y="3785760"/>
            <a:ext cx="2572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Rectangle 13"/>
          <p:cNvSpPr/>
          <p:nvPr/>
        </p:nvSpPr>
        <p:spPr>
          <a:xfrm>
            <a:off x="6286680" y="4286160"/>
            <a:ext cx="2071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s objectivos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6286680" y="3571920"/>
            <a:ext cx="207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 objectivo geral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5" name="Conexão recta unidireccional 107"/>
          <p:cNvCxnSpPr/>
          <p:nvPr/>
        </p:nvCxnSpPr>
        <p:spPr>
          <a:xfrm flipH="1" flipV="1">
            <a:off x="3357000" y="4571640"/>
            <a:ext cx="257220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Conexão recta unidireccional 108"/>
          <p:cNvCxnSpPr/>
          <p:nvPr/>
        </p:nvCxnSpPr>
        <p:spPr>
          <a:xfrm flipH="1" flipV="1">
            <a:off x="3357360" y="3857040"/>
            <a:ext cx="2643840" cy="57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7" name="Conexão recta unidireccional 111"/>
          <p:cNvCxnSpPr/>
          <p:nvPr/>
        </p:nvCxnSpPr>
        <p:spPr>
          <a:xfrm flipH="1" flipV="1">
            <a:off x="3285360" y="2856960"/>
            <a:ext cx="2715480" cy="85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lação entre pressupostos, objectivos, resultados e actividad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s actividades apenas irão conduzir aos resultados pretendidos se o permitirem os pressupostos; as actividades somadas aos pressupostos dos resultados satisfeitos (de nível superior) conduzem aos resultad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s resultados somados aos pressupostos satisfeitos conduzem à concretização dos objectivos específic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 objectivo específico do projecto somado aos pressupostos satisfeitos contribui para o objectivo ger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Correspondem aos resultados visados em termos de estado que se pretende atingir pela implementação do projec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 de um Objectivo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ertinente, adequando-se às situações que suscitaram a interven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ciso, contendo em si a exactidão do percurso a efectuar e definindo o novo estado pretendid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alizável, não sendo um objectivo demasiadamente ambicioso, sem hipóteses de ser alcançad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Mensurável, fornecendo a possibilidade de uma correcta avaliação posterio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 de um Objectivo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natureza da situação desejad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critérios de sucesso ou de fracass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população alv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zona de aplicaçã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 tempo em que deverá ser atingid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xemplo: Reduzir a taxa de mortalidade específica por acidentes por veículos a motor (elemento 1) para 15 por 10000 (elemento 2), no grupo etário dos 0 a 25 anos (elemento 3), no Distrito de Beja (elemento 4), até ao ano 2010 (elemento 5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s objectivos devem ser interdependentes e sequenciais (hierarquizados). Uma boa hierarquização dos objectivos integra a formulação de objectivos gerais e de objectivos específicos (Cristovão e Silva, 2003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xemplo de Objectivo Geral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duzir em 50% a taxa de mortalidade específica por acidentes por veículos a motor, na população com menos de 25 anos, no Distrito de Beja, até 2010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xemplo de Objectivos Específicos associa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1.- Até 2010, 100% dos automobilistas do Distrito de Beja com menos de 25 anos, deverão ter sido submetidos a uma acção de formação sobre a prevenção rodoviári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2.- Até 2007, 100% dos pontos negros das estradas do Distrito de Beja deverão estar providos de sinalização adequada, referenciando a existência de perig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3.- Até 2005, 50% dos pais dos jovens com menos de 18 anos, deverão ter sido submetidos a acções de educação sobre a necessidade de instruírem os filhos sobre normas de segurança rodoviári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jectivos e Indicado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Natureza dos objectivos e indicador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: tudo o que se refere a recurs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: tudo o que se refere a produtos e serviç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Impacte: tudo o que identifica impactes (influência sustentável sobre o ambiente) da interven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eve procurar-se sempre definir objectivos de impacte; se tal não for possível deve-se então definir objectivos de </a:t>
            </a: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; se tal também for impossível os objectivos a definir serão de </a:t>
            </a: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odelo Eisenhower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écnica de hierarquização das prioridades de intervenção; é um método de grande simplicidade e utilidade em termos de visualização, fundamentando-se em dois critérios de qualificação e priorização de problemas ou necessidade de intervenção: importância e urgênci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É uma forma possível de dar um passo intermédio na transformação de problemas em objectiv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que necessitam de atenção imediata (os que são importantes e urgentes) são colocados no quadrante superior direito (prioridade I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rientação e âmbito conceptual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ferentes teóricos relacionados com o conteúdo do projecto; investigações e estudos de referênci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rientação e critérios pedagógicos, sociais, culturais, psicológicos, etc.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cidência de âmbito conceptual em aspectos metodológicos e organiza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au de inovação ou carácter experimental do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odelo Eisenhower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que são importantes mas não urgentes são colocados no quadrante superior esquerdo (prioridade II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Nos quadrantes inferiores colocam-se os problemas menos importantes e que não afectam nem põem em causa o projecto; estes problemas podem ser deixados de lado na formulação de objectivos gerais e específicos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6430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abelecimento de prioridades (outros método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19232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delo Eisenhower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ângulo 3"/>
          <p:cNvSpPr/>
          <p:nvPr/>
        </p:nvSpPr>
        <p:spPr>
          <a:xfrm>
            <a:off x="714240" y="2714760"/>
            <a:ext cx="7715520" cy="32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ângulo 4"/>
          <p:cNvSpPr/>
          <p:nvPr/>
        </p:nvSpPr>
        <p:spPr>
          <a:xfrm>
            <a:off x="1785960" y="292896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ângulo 7"/>
          <p:cNvSpPr/>
          <p:nvPr/>
        </p:nvSpPr>
        <p:spPr>
          <a:xfrm>
            <a:off x="4857840" y="292896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ângulo 8"/>
          <p:cNvSpPr/>
          <p:nvPr/>
        </p:nvSpPr>
        <p:spPr>
          <a:xfrm>
            <a:off x="785880" y="2786040"/>
            <a:ext cx="857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Ele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ângulo 10"/>
          <p:cNvSpPr/>
          <p:nvPr/>
        </p:nvSpPr>
        <p:spPr>
          <a:xfrm>
            <a:off x="1785960" y="42148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 negligenc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ângulo 11"/>
          <p:cNvSpPr/>
          <p:nvPr/>
        </p:nvSpPr>
        <p:spPr>
          <a:xfrm>
            <a:off x="4857840" y="42148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ângulo 12"/>
          <p:cNvSpPr/>
          <p:nvPr/>
        </p:nvSpPr>
        <p:spPr>
          <a:xfrm rot="16200000">
            <a:off x="500040" y="4071960"/>
            <a:ext cx="15004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mportâ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ângulo 14"/>
          <p:cNvSpPr/>
          <p:nvPr/>
        </p:nvSpPr>
        <p:spPr>
          <a:xfrm>
            <a:off x="857160" y="5500800"/>
            <a:ext cx="92880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Reduzi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4" name="Conexão recta unidireccional 16"/>
          <p:cNvCxnSpPr/>
          <p:nvPr/>
        </p:nvCxnSpPr>
        <p:spPr>
          <a:xfrm flipV="1">
            <a:off x="1498680" y="2928240"/>
            <a:ext cx="2160" cy="24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Conexão recta unidireccional 18"/>
          <p:cNvCxnSpPr/>
          <p:nvPr/>
        </p:nvCxnSpPr>
        <p:spPr>
          <a:xfrm>
            <a:off x="1857240" y="5500800"/>
            <a:ext cx="578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6" name="Rectângulo 21"/>
          <p:cNvSpPr/>
          <p:nvPr/>
        </p:nvSpPr>
        <p:spPr>
          <a:xfrm>
            <a:off x="7572240" y="5572080"/>
            <a:ext cx="7858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Ele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ângulo 22"/>
          <p:cNvSpPr/>
          <p:nvPr/>
        </p:nvSpPr>
        <p:spPr>
          <a:xfrm>
            <a:off x="4214880" y="5572080"/>
            <a:ext cx="1143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Urgê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relha de priorização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abela de dupla entrada onde os problemas são hierarquizados de acordo com alguns critérios seleccionad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ses critérios incluem a importância e a urgência e outros como os recursos disponíveis, a sensibilidade dos técnicos e dirigentes à sua erradicação ou a importância que eles têm para o grupo alv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Começa-se por seleccionar os critérios de priorização e estabelecer a relevância de cada um deles (factor de ponderação); em seguida, cada um dos problemas identificados é classificado numa escala de 1 a 5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mais pontuados são aqueles que são prioritários para o project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Grelha de priorização (Schiefer </a:t>
            </a:r>
            <a:r>
              <a:rPr b="0" i="1" lang="en-GB" sz="1800" spc="-1" strike="noStrike">
                <a:solidFill>
                  <a:srgbClr val="006600"/>
                </a:solidFill>
                <a:latin typeface="Verdana"/>
              </a:rPr>
              <a:t>et al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1680" y="2571840"/>
          <a:ext cx="8001000" cy="3062160"/>
        </p:xfrm>
        <a:graphic>
          <a:graphicData uri="http://schemas.openxmlformats.org/drawingml/2006/table">
            <a:tbl>
              <a:tblPr/>
              <a:tblGrid>
                <a:gridCol w="1143000"/>
                <a:gridCol w="1428480"/>
                <a:gridCol w="428760"/>
                <a:gridCol w="1571760"/>
                <a:gridCol w="428400"/>
                <a:gridCol w="1571760"/>
                <a:gridCol w="428400"/>
                <a:gridCol w="100044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itérios de prioriz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ortância (4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rgência (4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ursos existentes (2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édia ponder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bjectivos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scrição dos objectivos gerais e específic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sultados e mudanças pretendidas por estes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nálise do conteúdo dos objectivos a um princípio de real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au de adaptação em função das variáveis de gest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evisão da avaliação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 da avali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visão de métodos de avali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Tipos de avaliação e agentes avaliador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 de avaliação do processo e do impacto dos resultad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eamento de projectos orientado para objectivos (P.P.O.O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upos envolvid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nálise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lternativ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/actividad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strução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a matriz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Meios de verificaçã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(MEL ou MQL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ssupost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u MP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1" name="Conexão recta unidireccional 6"/>
          <p:cNvCxnSpPr/>
          <p:nvPr/>
        </p:nvCxnSpPr>
        <p:spPr>
          <a:xfrm flipV="1">
            <a:off x="3214800" y="3142800"/>
            <a:ext cx="7149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exão recta unidireccional 8"/>
          <p:cNvCxnSpPr/>
          <p:nvPr/>
        </p:nvCxnSpPr>
        <p:spPr>
          <a:xfrm>
            <a:off x="3214440" y="34290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exão recta unidireccional 11"/>
          <p:cNvCxnSpPr/>
          <p:nvPr/>
        </p:nvCxnSpPr>
        <p:spPr>
          <a:xfrm>
            <a:off x="3214440" y="3499920"/>
            <a:ext cx="7866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exão recta unidireccional 13"/>
          <p:cNvCxnSpPr/>
          <p:nvPr/>
        </p:nvCxnSpPr>
        <p:spPr>
          <a:xfrm>
            <a:off x="3214440" y="3571920"/>
            <a:ext cx="78660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Conexão recta unidireccional 17"/>
          <p:cNvCxnSpPr/>
          <p:nvPr/>
        </p:nvCxnSpPr>
        <p:spPr>
          <a:xfrm flipV="1">
            <a:off x="3500280" y="4714200"/>
            <a:ext cx="5011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xão recta unidireccional 20"/>
          <p:cNvCxnSpPr/>
          <p:nvPr/>
        </p:nvCxnSpPr>
        <p:spPr>
          <a:xfrm>
            <a:off x="3571560" y="4928760"/>
            <a:ext cx="429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xão recta unidireccional 22"/>
          <p:cNvCxnSpPr/>
          <p:nvPr/>
        </p:nvCxnSpPr>
        <p:spPr>
          <a:xfrm>
            <a:off x="3500280" y="5071680"/>
            <a:ext cx="5011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Conexão recta unidireccional 24"/>
          <p:cNvCxnSpPr/>
          <p:nvPr/>
        </p:nvCxnSpPr>
        <p:spPr>
          <a:xfrm>
            <a:off x="3429000" y="5214600"/>
            <a:ext cx="5724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eamento de projectos orientado para objectivos (P.P.O.O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(etapa de identificaçã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Usar, por exemplo, as árvores de problemas e de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árvore de objectivos é uma árvore sombra (simétrica) da árvore de problemas; nela estão representadas as situações desejadas (objectivos) relativas a cada uma das situações problemáticas indicadas na árvore de problem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Tem também um objectivo central, objectivos terminais e níveis de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2560" y="1642680"/>
            <a:ext cx="87152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obje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elhorar a rentabilização do serviço pres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elhorar o serviço pres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produtivid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informação  de apoio à ve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ângulo 36"/>
          <p:cNvSpPr/>
          <p:nvPr/>
        </p:nvSpPr>
        <p:spPr>
          <a:xfrm>
            <a:off x="357120" y="5072040"/>
            <a:ext cx="1285920" cy="928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Reduzir as dificuldades  em implementar a disciplina n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senvolver o perfil da chef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6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motivação para 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Rectângulo 46"/>
          <p:cNvSpPr/>
          <p:nvPr/>
        </p:nvSpPr>
        <p:spPr>
          <a:xfrm>
            <a:off x="214200" y="4071960"/>
            <a:ext cx="150048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elhorar a organização dos recursos hum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7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"/>
          <p:cNvSpPr/>
          <p:nvPr/>
        </p:nvSpPr>
        <p:spPr>
          <a:xfrm>
            <a:off x="711360" y="387360"/>
            <a:ext cx="8127720" cy="703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Uma árvore de problemas complex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aixo nív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 ac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219320" y="1324080"/>
            <a:ext cx="171900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087880" y="1324080"/>
            <a:ext cx="2328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minui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s rend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 cap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tores tradic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economia local 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nvers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insufic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à criação de nov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Cajó</cp:lastModifiedBy>
  <dcterms:modified xsi:type="dcterms:W3CDTF">2009-02-27T12:42:40Z</dcterms:modified>
  <cp:revision>525</cp:revision>
  <dc:subject/>
  <dc:title>Introdução às Políticas Agrárias</dc:title>
</cp:coreProperties>
</file>